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D77-2C8D-4756-9175-897A0D95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9F5-D1AC-4852-A8C3-3BF7819A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824-B734-4DDE-8A39-328BE299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554-036B-4C6E-A556-F244B72A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1255-E99D-4612-97FD-FE25C361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8343-2C25-4FB2-A94B-22C4F125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7123-8C4C-4EDE-AC4B-30047705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5A46-F709-4A8D-A516-B570F89A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A61B-E2C4-4E6D-9CCB-FF2095C7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568C-BB37-4F85-A733-24900E42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D996-BD5F-418C-97CF-B4CBD5EA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B7C-EF58-454D-A7C5-D6D8AAA6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B87B-C2FB-4BBF-A42B-955F959A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5D96-EEB9-4587-82F5-C534474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2296-EF56-49E0-8ACA-DDEFAC0A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D2C3-8994-4A1F-A7C2-1874FA2E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03DA-66EA-4863-9DB6-A6227A04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3A70-BB8B-488C-BDEE-A9033C37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9EE6-1C26-434B-B3ED-E5C7135F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867F-911C-4224-89F8-5172B3E2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84FA-8678-47F8-A787-F4AE16EF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EE3C-3A9A-4E3E-BD23-9B648CAA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E48-95DD-4E9B-A8A2-32531C0B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9601-C6BB-426A-AB26-F141AFD6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5F92-62E7-42B0-AFD5-AECFD69C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F8AC-38AE-403B-BB80-36A7D0C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684F-0E66-448E-A95F-70BB654A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5215-CDFD-476D-8C10-2BC3F5FD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ECDD-0FC3-40C9-BE1B-5A3172E2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F590-5D8B-41CE-9CA4-63898035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C62A-54A1-4FEB-A508-0CE4FA62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8C66-FFC0-4BEC-BC29-1FBDD202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69503-74F8-46B1-A6B1-F2318F17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8D2-0BD7-420C-ACE0-FFC95FF2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731B-8D18-4A3A-BB5C-85DBCA41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C74C-1BBE-4DE9-A4A9-3B47B2F8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495AC-4254-43FE-A70A-6D3FAC92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A601-EF9B-47CC-8604-186E771E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CA414-9121-4BA7-8A3C-7EBF71E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3C13-E376-4E14-A8D8-7120C26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75BC-29A6-4EEB-89F1-E612A9A7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9B1F-551C-432B-9F60-15B548D9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6369B-3BCA-4FFF-8436-C0683A42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81E-7E4B-42AC-9EB5-D0C8A425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DF7-543C-4F51-A8A1-7E546964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4B4-3994-43A1-80B5-D70149BB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687-B51E-4D5C-9342-1B4926C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BE1-53AA-4601-BA3F-A6B70217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AC0C-A222-4350-8A1E-DB4011D9E8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2C76-CF08-4BA7-B278-2103B16E27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6F51-197A-4BF6-AC7F-DC1DE62EB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38D0-2AAA-4FCE-A13E-0FEBCFA14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" TargetMode="External"/><Relationship Id="rId3" Type="http://schemas.openxmlformats.org/officeDocument/2006/relationships/hyperlink" Target="http://video.google.ca/" TargetMode="External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20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oth allow import of raw video foo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t, paste and move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sert music and nar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sert titles and still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ilt-in spe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ort to .wmv or .mov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eate 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Editing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primary formats for student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media fil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C – Movie Maker - .w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ple – iMovie - 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forma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ous players for student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media play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lPlay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01318"/>
                </a:solidFill>
                <a:latin typeface="Arial"/>
              </a:rPr>
              <a:t>Computers should have all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01318"/>
                </a:solidFill>
                <a:latin typeface="Arial"/>
              </a:rPr>
              <a:t>players – FREE download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play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057400" y="11430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re are four websites that can help you with more tricks and tips to create great videos – in and out of y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ort Course in Digital Vide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rs Guide to making Student Vide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Make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 iMov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aking GREAT Vide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971800" y="7621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On-line video storage and sharing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You Tube</a:t>
            </a:r>
            <a:br>
              <a:rPr sz="32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Google Video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rowth of video storage sites has grown in past few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 digital video cameras, easy-editing software on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without issues, but can be used for educational purposes with proper supervision an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7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lows easily accessible uploading, storage and sharing of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re / share your own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able tags - Find other videos for your projec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7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ble to embed videos from Google and You Tube into blogs, wikis and other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eacher and student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video.google.ca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Instructional Video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d to have VHS videos that we played on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cience, Social Studies most pop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ard to find, acquire,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Instructional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created videos (MovieMaker / iMovie), formats,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al video resources – Web based streaming video sources (media, educational vide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right – software, images,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Copyright – music downlo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05120" y="17521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e of a few new educational streaming video servic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nual license,          school or district           fee based on              stude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tedstream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3057480" cy="2235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archable / downloa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REE trials available – but 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ww.unitedstreaming.com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tedstream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4647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other new educational streaming video servic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nual license, school or district fee based on school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afari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477120" y="3048120"/>
            <a:ext cx="2133360" cy="102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rver-b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able / not-downlo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safarivideonetwork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afari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 REAL material has an owner – individual or col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01318"/>
                </a:solidFill>
                <a:latin typeface="Arial"/>
              </a:rPr>
              <a:t>House, car, computer, book, tre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about digital mate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Who owns pictures, music and video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What rights do they have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How does this affect us as educators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eator owns copyright       automatically – no need to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gital material treated same as physical mate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hotos, drawings, recordings, software, etc. are all owned by individual or organization that created them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Copyright symbol"/>
          <p:cNvPicPr/>
          <p:nvPr/>
        </p:nvPicPr>
        <p:blipFill>
          <a:blip r:embed="rId2"/>
          <a:stretch/>
        </p:blipFill>
        <p:spPr>
          <a:xfrm>
            <a:off x="6781680" y="152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4191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 have an obligation to model good citizenship and educate our students on digital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712960" cy="434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ermission from owner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Copyright free 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Web search, NB DO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Creative commons licens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Flickr – advanced 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Take your own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other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Use purchased music or video, do not reproduce on Internet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ermission from owner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76720" y="6091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Videos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students using computers"/>
          <p:cNvPicPr/>
          <p:nvPr/>
        </p:nvPicPr>
        <p:blipFill>
          <a:blip r:embed="rId2"/>
          <a:stretch/>
        </p:blipFill>
        <p:spPr>
          <a:xfrm>
            <a:off x="2514600" y="2971800"/>
            <a:ext cx="4952880" cy="34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Use only original softwar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Trial and freeware OK within terms of us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Don’t use file-sharing services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Citation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en researching information, it is acceptable to quote or refer to ideas and data expressed as part of presentations or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ortant that credit be given to original creator / author in the form of a citation or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rmally at end of document o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en to re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Present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Vide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Web Pag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to re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Original works or papers (books, articles, etc.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Photos or illustr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Dat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Web Pag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primary formats, both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APA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MLA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Reference to author, publisher, title, year of publication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Slight differences depending on what you are referenc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ols for Referenc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A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liu.edu/CWIS/CWP/library/workshop/citapa.ht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itation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ndmarks for School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landmark-project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you believe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ile-sharing music or vide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out paying for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legal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f not, why are so many of 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young people doing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5715000" cy="5357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432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a picture is worth a thousand wo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in the Classroom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6019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is a video wo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Plans du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Presentations start next 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&amp; Peer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 of presentations on the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ducation is really just about telling our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deo can be used at all ages and in all curricula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deo Field Trip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 Media Club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are with other classes &amp; school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create videos to share what they know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in the Classroom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nds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at way to build cross-curricular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teracy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board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ng / Dra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gital Story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torycenter.org/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y video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gital Video Camer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ill c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 with Digital Video Editing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XP – Movie Mak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cintosh - iMovi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at you need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886040" cy="1857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Editing Video – Movie Maker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6433920" cy="4638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Editing Video – iMovi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2-20T03:34:00Z</dcterms:modified>
  <cp:revision>32</cp:revision>
  <dc:subject/>
  <dc:title>Welcome to  ED3862</dc:title>
</cp:coreProperties>
</file>